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1899-9F16-4243-95C3-639F9FE7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8CB5-7730-45D6-B603-C7F9ADCD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8C98-22DA-44A9-A127-002D13B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5E6B-4FD2-49EE-B754-8EF40316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E14-A73B-400A-A709-83EC037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C134-59F0-4380-84A3-6F91F80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AC38-F756-416F-B180-4C79824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78D8-073E-4EC7-8116-E9DB97C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2CD9-AE9F-4264-B390-4FBAF7D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513-5339-4C5E-BA69-996A6C46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2C99-A73E-4B8E-A318-CC1B19E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FAE9-65DC-428A-AED8-125B81EE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5D7-CA72-4D43-ACE8-14E44D2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655E-56FA-4214-83BD-E2DF321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7F54-AF92-4096-BC34-5EFA9C90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228B-AC56-49D3-B45C-CDB0CDB6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7A0-E89B-49E5-8D3A-25634255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A41E-761E-4FB0-9417-0B0CEC2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CE09-4277-466E-9FC3-6D41833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F37A-F499-4906-8BEA-CBD6EB69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BFB2-FF9C-4A55-8956-8439548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A660-5F8D-44F0-9358-7DBFF6F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0A00-FD50-4E2F-A7AD-34BBA1F4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B5FD-CD3D-4582-9D10-103941A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181-A4F9-4BA1-AD1A-B6707A693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24E-6888-40F4-99FB-FF0AA56849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iding and Showing Objec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80280" y="1636560"/>
            <a:ext cx="58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initializ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3040" y="2971800"/>
            <a:ext cx="76816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rst, we have to hide the two shapes that we want to show later. You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e that both shapes are on slide number 3.  The shapes are the fir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cond object that we placed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9920" y="4227480"/>
            <a:ext cx="575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show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80640" y="55990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y changing the word False to True, shapes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219320"/>
            <a:ext cx="2514600" cy="2514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676520"/>
            <a:ext cx="2438280" cy="2133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762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3160" y="646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0666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53040" y="569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257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743200" y="48765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45360" y="45324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the macro to initializ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4864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5181480"/>
            <a:ext cx="9907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8360" y="46083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macro to Sh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0:24Z</dcterms:created>
  <dc:creator>jnatale</dc:creator>
  <dc:description/>
  <dc:language>en-US</dc:language>
  <cp:lastModifiedBy>jnatale</cp:lastModifiedBy>
  <dcterms:modified xsi:type="dcterms:W3CDTF">2009-02-19T18:01:08Z</dcterms:modified>
  <cp:revision>2</cp:revision>
  <dc:subject/>
  <dc:title>Hiding and Showing Objects</dc:title>
</cp:coreProperties>
</file>